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30B7-1DCD-4236-BCF3-9F199989E4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3F7-378A-489F-B1D3-3700A0BB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B3E-2D6C-4223-82BE-AC39CAD0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7C3-0146-4CC1-999E-806C8D01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8F6-E249-4547-A625-1A714CC0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842-6C98-46DA-AAFE-4962CF68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E76-CCFE-43BC-BB2B-B59A2832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C5D-38D3-4F99-A3E6-FFD58D13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3E5-3AED-4CE1-B639-1FE86D5D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435-1E42-4FB2-BB5A-5D6B15FD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621-64A1-4AA4-9BCA-100E2774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9C5-15FE-4DE3-A073-CCC5B92A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459-C3C3-4785-A57D-4A3B2D6B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060E-0425-4B90-A3F6-11B7FFAB68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bbc.co.uk/1/hi/health/1372832.s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AFbPHlhI13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2714400"/>
            <a:ext cx="7786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wikieducator.org/images/4/4d/Villus_labeled_and_coloured.JPG"/>
          <p:cNvPicPr/>
          <p:nvPr/>
        </p:nvPicPr>
        <p:blipFill>
          <a:blip r:embed="rId1"/>
          <a:stretch/>
        </p:blipFill>
        <p:spPr>
          <a:xfrm>
            <a:off x="785880" y="285840"/>
            <a:ext cx="7840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illions provide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larg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ach villus has many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microvill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further increas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Rich blood supply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absorbed nutrients to pass into and be taken around bo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ranch of lymphatic system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akes absorbed fatty acids and glycerol away to be used or sto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illi wall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one cell thick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rapid passing through of nutr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ww.llu.edu/llumc/transplant/images/liver-abdomen.jpg"/>
          <p:cNvPicPr/>
          <p:nvPr/>
        </p:nvPicPr>
        <p:blipFill>
          <a:blip r:embed="rId1"/>
          <a:stretch/>
        </p:blipFill>
        <p:spPr>
          <a:xfrm>
            <a:off x="4143240" y="1357200"/>
            <a:ext cx="50007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tomach b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is dig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eaking down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large, in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o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maller, 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at can b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breaks down the large molec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igestive enzy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e by specialised cells inside g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480" y="1600200"/>
            <a:ext cx="86439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4"/>
          <p:cNvCxnSpPr/>
          <p:nvPr/>
        </p:nvCxnSpPr>
        <p:spPr>
          <a:xfrm>
            <a:off x="3429000" y="192888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6"/>
          <p:cNvCxnSpPr/>
          <p:nvPr/>
        </p:nvCxnSpPr>
        <p:spPr>
          <a:xfrm>
            <a:off x="3071880" y="371484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7"/>
          <p:cNvCxnSpPr/>
          <p:nvPr/>
        </p:nvCxnSpPr>
        <p:spPr>
          <a:xfrm>
            <a:off x="2857680" y="5428800"/>
            <a:ext cx="20718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igestion animat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First 5 mins 15 se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sten carefully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make notes in your book. You will be quizzed after the animation so list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simple sug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mino ac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fatty acids + glyce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000680" y="2071800"/>
            <a:ext cx="421452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00240" y="2571840"/>
            <a:ext cx="4429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86000" y="3000240"/>
            <a:ext cx="24289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57760" y="4286160"/>
            <a:ext cx="2071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786040" y="47149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214720" y="5214960"/>
            <a:ext cx="3214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715080" y="56437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Kills bacteria in food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protects 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Denatures protein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makes digestion easi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ctivates stomach enzyme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these only work in acidic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Pepsin is inactive when first made and is only activated by HCL to start digesting protei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is produced in the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stored in the g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ll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utralises aci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om the stom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also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emulsifi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at droplets to increase their surface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://biology.touchspin.com/images/villi.jpg"/>
          <p:cNvPicPr/>
          <p:nvPr/>
        </p:nvPicPr>
        <p:blipFill>
          <a:blip r:embed="rId1"/>
          <a:stretch/>
        </p:blipFill>
        <p:spPr>
          <a:xfrm>
            <a:off x="1071720" y="1714680"/>
            <a:ext cx="72864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bbc.co.uk/schools/ks3bitesize/science/images/villi.gif"/>
          <p:cNvPicPr/>
          <p:nvPr/>
        </p:nvPicPr>
        <p:blipFill>
          <a:blip r:embed="rId1"/>
          <a:stretch/>
        </p:blipFill>
        <p:spPr>
          <a:xfrm>
            <a:off x="1071720" y="214200"/>
            <a:ext cx="77151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21:45Z</dcterms:created>
  <dc:creator>ICT Technical Services</dc:creator>
  <dc:description/>
  <dc:language>en-US</dc:language>
  <cp:lastModifiedBy>RomaK</cp:lastModifiedBy>
  <dcterms:modified xsi:type="dcterms:W3CDTF">2015-09-04T10:47:04Z</dcterms:modified>
  <cp:revision>14</cp:revision>
  <dc:subject/>
  <dc:title>Topic: B2b Lesson: 2 Title: Enzymes and digestion</dc:title>
</cp:coreProperties>
</file>